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269-40DF-4DB6-91F0-5824B453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249-DA73-4EAF-9EA2-8A5FADA6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0DE-4D4E-4281-90ED-3F93301D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7C9-562A-4E52-A985-DF7DC289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084D-D7C8-42EA-BEA0-2A3F98BC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1B80-1556-4EF2-95CE-CE92732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1246-24E3-4182-9282-1CB5A87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6BED-1AE6-4A8E-8866-A36619C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472F-3BF5-48BB-8FA0-9B2C9ECC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66EF-2D38-4334-B3EC-12FB636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C63-9758-4E89-915C-C473240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B05-72A7-4F3B-87F0-637ACC1B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0C8-4F43-4D3E-87B8-E9CCBE8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E0D-4DC9-4E26-9CB0-3D7FD4AC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3139-C137-46C3-8970-6EED3C1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1F33-ECF8-451A-A90A-D0BD2D0E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116C-FB38-47DF-B725-23080318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E5A-8D88-49D3-AB9A-AB8B23B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982-31BC-491F-9301-CD6DD38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D96-75DA-4983-BF1A-9B6A4FC7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4B4-7AAA-4C93-A2DA-C66970D6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9D9-9AEB-4575-8FA8-D7341AB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B25-3238-4490-A11E-F375809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DED-6B98-485A-A3BC-58203EA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4E31-0D28-4DF8-8DE5-DE37498E4404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1365-E436-47D5-BB76-01E5D328F51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own.edu/Departments/Anthropology/publications/FUNDMNTALISM.htm" TargetMode="External"/><Relationship Id="rId3" Type="http://schemas.openxmlformats.org/officeDocument/2006/relationships/hyperlink" Target="http://www.brown.edu/Departments/Anthropology/publications/FUNDMNTALISM.htm" TargetMode="External"/><Relationship Id="rId4" Type="http://schemas.openxmlformats.org/officeDocument/2006/relationships/hyperlink" Target="http://www.brown.edu/Departments/Anthropology/publications/FUNDMNTALISM.htm" TargetMode="External"/><Relationship Id="rId5" Type="http://schemas.openxmlformats.org/officeDocument/2006/relationships/hyperlink" Target="http://www.brown.edu/Departments/Anthropology/publications/FUNDMNTALISM.htm" TargetMode="External"/><Relationship Id="rId6" Type="http://schemas.openxmlformats.org/officeDocument/2006/relationships/hyperlink" Target="http://www.awesomelibrary.org/Muslims-Rage.html" TargetMode="External"/><Relationship Id="rId7" Type="http://schemas.openxmlformats.org/officeDocument/2006/relationships/hyperlink" Target="http://archives.cnn.com/2001/WORLD/asiapcf/central/09/19/inv.afghanistan.camp/" TargetMode="External"/><Relationship Id="rId8" Type="http://schemas.openxmlformats.org/officeDocument/2006/relationships/hyperlink" Target="http://www.zionism.netfirms.com/fundamentalism.html" TargetMode="External"/><Relationship Id="rId9" Type="http://schemas.openxmlformats.org/officeDocument/2006/relationships/hyperlink" Target="http://www.zionism.netfirms.com/fundamentalism.html" TargetMode="External"/><Relationship Id="rId10" Type="http://schemas.openxmlformats.org/officeDocument/2006/relationships/hyperlink" Target="http://www.zionism.netfirms.com/fundamentalism.html" TargetMode="External"/><Relationship Id="rId11" Type="http://schemas.openxmlformats.org/officeDocument/2006/relationships/hyperlink" Target="http://www.zionism.netfirms.com/fundamentalism.html" TargetMode="External"/><Relationship Id="rId12" Type="http://schemas.openxmlformats.org/officeDocument/2006/relationships/hyperlink" Target="http://www.zionism.netfirms.com/fundamentalism.html" TargetMode="External"/><Relationship Id="rId13" Type="http://schemas.openxmlformats.org/officeDocument/2006/relationships/hyperlink" Target="http://www.bookrags.com/researchtopics/the-middle-east-os/sub18.html" TargetMode="External"/><Relationship Id="rId14" Type="http://schemas.openxmlformats.org/officeDocument/2006/relationships/hyperlink" Target="http://www.bookrags.com/researchtopics/the-middle-east-os/sub18.html" TargetMode="External"/><Relationship Id="rId15" Type="http://schemas.openxmlformats.org/officeDocument/2006/relationships/hyperlink" Target="http://www.bookrags.com/researchtopics/the-middle-east-os/sub18.html" TargetMode="External"/><Relationship Id="rId16" Type="http://schemas.openxmlformats.org/officeDocument/2006/relationships/hyperlink" Target="http://www.noi.org/cointelpro/" TargetMode="External"/><Relationship Id="rId17" Type="http://schemas.openxmlformats.org/officeDocument/2006/relationships/hyperlink" Target="http://www.noi.org/cointelpro/" TargetMode="External"/><Relationship Id="rId18" Type="http://schemas.openxmlformats.org/officeDocument/2006/relationships/hyperlink" Target="http://www.noi.org/cointelpro/" TargetMode="External"/><Relationship Id="rId19" Type="http://schemas.openxmlformats.org/officeDocument/2006/relationships/hyperlink" Target="http://www.noi.org/cointelpro/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14600" y="1295280"/>
            <a:ext cx="4971960" cy="4675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ligious fundamentalis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y Marc and Spenc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ymbolis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1832040" cy="190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9343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2667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4038840" cy="287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685800"/>
            <a:ext cx="3047760" cy="292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505320" y="3886200"/>
            <a:ext cx="27795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ree of Relig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5333760" cy="3759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48520" y="2971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5627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a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4193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52880" y="3504960"/>
            <a:ext cx="14479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352680" y="3505320"/>
            <a:ext cx="1371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75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343400" cy="2011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257800" y="2819520"/>
            <a:ext cx="3048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14784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241720" cy="233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29718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udio-Vide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4065840" cy="228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2590920" cy="280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143000" y="3954600"/>
          <a:ext cx="7543800" cy="32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3954600"/>
                    <a:ext cx="75438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www.brown.</a:t>
            </a: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edu/Departments/Anthropology/publications/FUNDMNTALISM</a:t>
            </a: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ht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3333cc"/>
                </a:solidFill>
                <a:uFillTx/>
                <a:latin typeface="Papyrus"/>
                <a:hlinkClick r:id="rId6"/>
              </a:rPr>
              <a:t>http://www.awesomelibrary.org/Muslims-Rage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3333cc"/>
                </a:solidFill>
                <a:uFillTx/>
                <a:latin typeface="Papyrus"/>
                <a:hlinkClick r:id="rId7"/>
              </a:rPr>
              <a:t>http://archives.cnn.com/2001/WORLD/asiapcf/central/09/19/inv.afghanistan.camp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8"/>
              </a:rPr>
              <a:t>http://www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9"/>
              </a:rPr>
              <a:t>zionism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0"/>
              </a:rPr>
              <a:t>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1"/>
              </a:rPr>
              <a:t>netfirms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2"/>
              </a:rPr>
              <a:t>.com/fundamentalism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3"/>
              </a:rPr>
              <a:t>http://www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4"/>
              </a:rPr>
              <a:t>bookrags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5"/>
              </a:rPr>
              <a:t>.com/researchtopics/the-middle-east-os/sub18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6"/>
              </a:rPr>
              <a:t>http://www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7"/>
              </a:rPr>
              <a:t>noi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8"/>
              </a:rPr>
              <a:t>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9"/>
              </a:rPr>
              <a:t>org/cointelpro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en.wikipedia.org/wiki/Islamis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www.springerlink.com/content/q4668m27035k36h6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www.bibalex.org/BeaconForFreedom/pdf/Fundamentalismmostafaerazzaz.pdf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www.euronet.nl/users/e_wesker/fundam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members.iinet.net.au/~jgowland/Islamic%20Fundamentalism.htm</a:t>
            </a:r>
            <a:r>
              <a:rPr b="0" lang="en-US" sz="1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7:13:36Z</dcterms:created>
  <dc:creator>Tanis Kitteringham</dc:creator>
  <dc:description/>
  <dc:language>en-US</dc:language>
  <cp:lastModifiedBy>ripkensa</cp:lastModifiedBy>
  <dcterms:modified xsi:type="dcterms:W3CDTF">2009-10-13T19:30:28Z</dcterms:modified>
  <cp:revision>2</cp:revision>
  <dc:subject/>
  <dc:title>Religious fundamentalism</dc:title>
</cp:coreProperties>
</file>